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%D0%9A%D0%BE%D0%BB%D0%BE%D0%BA%D0%BE%D0%BB%D0%B0.wav" ContentType="audio/x-wav"/>
  <Override PartName="/ppt/media/image13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14.gif" ContentType="image/gif"/>
  <Override PartName="/ppt/media/%D1%81%D0%BA%D1%80%D0%B8%D0%BF%D0%BA%D0%B0.wav" ContentType="audio/x-wav"/>
  <Override PartName="/ppt/media/image8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497-D0F5-4A18-8F5F-573D0AE8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0F5-7F2E-467D-BA7E-33BA774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7DC-95CA-47BB-ABEF-C6C972F3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6CB-D5D3-4DAD-9347-E3E48041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E75-431B-4E14-93F5-275747E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7B3-3731-45B0-A510-0DB5622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1B4-EA64-4A36-8C7C-B881649E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D24-0E98-4016-B1A7-8DFDECF8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163-F18A-4F80-98CB-B7F51B10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5CF-D7EC-4108-B2D8-7EF053A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8D4-2AA0-4D30-8AF5-EE658EFC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DA8-340D-49B2-A971-343EF68A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B529-5E08-4F6C-A5EC-2AA7551C3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audio" Target="../media/&#1050;&#1086;&#1083;&#1086;&#1082;&#1086;&#1083;&#1072;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2.jpeg"/><Relationship Id="rId5" Type="http://schemas.openxmlformats.org/officeDocument/2006/relationships/audio" Target="../media/&#1089;&#1082;&#1088;&#1080;&#1087;&#1082;&#1072;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21800" y="1773360"/>
            <a:ext cx="47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ы – прекрасные слуш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и интересные собесед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дачи В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360" y="378936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ариса Леонидовна Троп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0920" y="0"/>
            <a:ext cx="7489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95560" y="2708280"/>
            <a:ext cx="2157480" cy="230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ТРУ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486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Trump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170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21800" y="1773360"/>
            <a:ext cx="47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ы – прекрасные слуш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и интересные собесед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дачи В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360" y="378936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ариса Леонидовна Троп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1082520" cy="144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195640" y="1413000"/>
            <a:ext cx="102708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87640" y="2349360"/>
            <a:ext cx="1028880" cy="1370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5435640" y="3284640"/>
            <a:ext cx="1027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21800" y="1773360"/>
            <a:ext cx="47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ы – прекрасные слуш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и интересные собесед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дачи В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360" y="378936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ариса Леонидовна Троп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4312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анимашки кошки"/>
          <p:cNvPicPr/>
          <p:nvPr/>
        </p:nvPicPr>
        <p:blipFill>
          <a:blip r:embed="rId3"/>
          <a:stretch/>
        </p:blipFill>
        <p:spPr>
          <a:xfrm>
            <a:off x="611280" y="4076640"/>
            <a:ext cx="2520720" cy="2481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14920" y="191628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узыкальный ансам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8720" y="1197000"/>
            <a:ext cx="11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75280" y="-171360"/>
            <a:ext cx="31687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953480" y="620640"/>
            <a:ext cx="1190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21800" y="1773360"/>
            <a:ext cx="47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ы – прекрасные слуш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и интересные собесед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дачи В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360" y="378936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ариса Леонидовна Троп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844640"/>
            <a:ext cx="506124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 – прекрасные слушатели  и интересные собеседни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дачи Вам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3800" y="4797360"/>
            <a:ext cx="45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риса Леонидовна Троп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236000" y="692280"/>
            <a:ext cx="1190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21800" y="1773360"/>
            <a:ext cx="47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ы – прекрасные слуш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и интересные собесед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дачи В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360" y="378936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ариса Леонидовна Троп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50920" y="0"/>
            <a:ext cx="7489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280" y="2924280"/>
            <a:ext cx="608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орошую речь хорошо и слушать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21800" y="1773360"/>
            <a:ext cx="47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ы – прекрасные слуш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и интересные собесед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дачи В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360" y="378936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ариса Леонидовна Троп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800" y="844920"/>
            <a:ext cx="812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Человек спрятан за своими слов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Хорошую речь хорошо слуш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Как услышано, так и сказа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Сто  человек – сто мнен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Хороший слушатель – какой он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21800" y="1773360"/>
            <a:ext cx="47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ы – прекрасные слуш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и интересные собесед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дачи В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360" y="378936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ариса Леонидовна Троп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25236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4680" y="1125360"/>
            <a:ext cx="32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4720" y="1557360"/>
            <a:ext cx="297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вуки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3967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00440" y="616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-396720" y="6021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0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20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081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21800" y="1773360"/>
            <a:ext cx="47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ы – прекрасные слуш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и интересные собесед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дачи В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2360" y="378936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ариса Леонидовна Троп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0840" y="1125360"/>
            <a:ext cx="723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Узн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о зву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музыкальный инстру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4236840" cy="4421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230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0" y="2362320"/>
            <a:ext cx="7467480" cy="211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2"/>
          <a:srcRect l="0" t="0" r="15483" b="0"/>
          <a:stretch/>
        </p:blipFill>
        <p:spPr>
          <a:xfrm>
            <a:off x="0" y="990720"/>
            <a:ext cx="3137040" cy="441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43600" cy="2938320"/>
          </a:xfrm>
          <a:prstGeom prst="rect">
            <a:avLst/>
          </a:prstGeom>
          <a:ln cap="rnd" w="76320">
            <a:solidFill>
              <a:srgbClr val="003399"/>
            </a:solidFill>
            <a:custDash>
              <a:ds d="100000" sp="1000"/>
            </a:custDash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" presetSubtype="8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97" name="Picture 4" descr="Violin1"/>
          <p:cNvPicPr/>
          <p:nvPr/>
        </p:nvPicPr>
        <p:blipFill>
          <a:blip r:embed="rId1"/>
          <a:stretch/>
        </p:blipFill>
        <p:spPr>
          <a:xfrm>
            <a:off x="3809880" y="2057400"/>
            <a:ext cx="5334120" cy="3063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EN04984"/>
          <p:cNvPicPr/>
          <p:nvPr/>
        </p:nvPicPr>
        <p:blipFill>
          <a:blip r:embed="rId2"/>
          <a:stretch/>
        </p:blipFill>
        <p:spPr>
          <a:xfrm>
            <a:off x="4267080" y="1066680"/>
            <a:ext cx="4876920" cy="487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3085920" cy="334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867280" y="0"/>
            <a:ext cx="3097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кусство слу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2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0:24:31Z</dcterms:created>
  <dc:creator>Лариса</dc:creator>
  <dc:description/>
  <dc:language>en-US</dc:language>
  <cp:lastModifiedBy>Admin</cp:lastModifiedBy>
  <dcterms:modified xsi:type="dcterms:W3CDTF">2011-01-16T12:24:12Z</dcterms:modified>
  <cp:revision>39</cp:revision>
  <dc:subject/>
  <dc:title>Слайд 1</dc:title>
</cp:coreProperties>
</file>